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29725C-2BD4-4C43-AB0B-5F7E14A8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0E6DF7-993D-4CAD-B413-9C8F8C89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DA78-178F-4C61-891F-6A144A4A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E983-AB19-4DBD-BC9E-AFDA331E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ABC6-49BA-459A-B81E-E57184BF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F32F-0A46-4F7A-9FB0-A892AA0E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A9B74-BA38-429E-8DB6-14DE8DBE5B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1B13C-91E4-40F3-A4AE-E8F27F5AD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27F2-DE12-4091-B7AF-F60180375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4A34-3468-4482-A216-570E8858A3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CEF27-AC67-491B-AB30-27BE09660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4316-2FDE-4F5C-B331-1B2224FAD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BE6D9-B2F4-4E1A-B8FA-A217F817A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FEBE-082C-443B-8312-1C6A1D9A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977E-E443-4A95-920B-D9A738F5F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A50DC-DE45-4E43-AC27-69006D73E1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EF160-7F7F-4115-9BF6-A73392E0FB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EC77-EDE1-4CFE-827B-1A443C673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F685-066A-4E31-A22F-D6F682539A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0B052-6AAF-4B3F-A9D8-78B1E23B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63B8F-DE8D-4623-B56A-F42B31A4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24703-4F4A-4390-B845-7321AC5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D1DBA-B8A4-426B-918E-39A2047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7A173-233F-4DAF-BD93-3E0D96F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F7B6-32D8-43CB-96FD-ED78AB3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165A0-1CBB-47F9-9AB6-A82A4BFF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1D7E6-BEDA-4D42-975E-840B934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30A49-B679-48F5-B862-3D31D70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BCE94-B62B-45E4-BDBC-BFF79EC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635EB-C995-45A4-849C-AF019B2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6776C-D9CE-488C-95F8-89A32BA5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BF5E8-5ADD-4996-955A-2A0122B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4617-325D-43EF-AC26-E8C28C9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02DF-61BC-4796-AC61-82143A3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2BF9-C8C9-45A9-8836-E3843B2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D70B-CA56-4013-8204-C39D5C0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02C3-8AD0-4065-BC4C-C3EFE29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7A27-E3E9-42DA-841A-0CAB4F9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EE38-1590-452F-A35D-11811C3C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BBD-B27A-4F21-8F3D-8C41B2CDC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4566-B2D7-4535-A65F-51C1E29F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03F08-D832-45F0-8E34-06105D9AF51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37F1-4A1A-450D-9A0D-E79E8C775559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Quality Collection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Instructional Materials Aid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fficient to meet the needs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of the learning communit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184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186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1905120" y="19810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3716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Support the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Learning Needs of Student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4888-853F-4349-B44C-50815435A810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Foundation Formula-</a:t>
            </a: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tate Aid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Adequat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stainabl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Fai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mmensurate with cost of educat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nables students to meet the standards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193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195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A9A0-583D-4B49-92CB-883C857968C0}" type="slidenum">
              <a:t>4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00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02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F100-92B3-4628-B483-0EF019D3175A}" type="slidenum">
              <a:t>5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2:40Z</dcterms:modified>
  <cp:revision>110</cp:revision>
  <dc:subject/>
  <dc:title>Work Group Question here</dc:title>
</cp:coreProperties>
</file>